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FB39-5957-4867-9494-39F064F5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BD2-67E1-42D0-87FD-DCD7AA99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917-3DA8-443C-BAC9-D50B65DE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7B6-9F90-4C52-9CA8-09F2227C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25DE-F561-4035-926A-28ED3685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933-3EB7-47C3-9066-D66281CF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7351-1315-45F5-963A-8F3AB36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E5E4-8971-4ED9-BE6C-EEC74943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A15F-2418-4C7F-9189-24080F78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73E9-4D0B-414F-A051-F3E05014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5BEB-BB16-4192-95CC-FECB795E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455-CA57-4EC4-BBD7-BB9FB12A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84CB-55BA-411E-BC30-A5C54777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B608-B78F-4AE3-8DA2-40BF5AF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16AE-50FA-4784-99B3-1CE50F97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CE44-6ED8-4E6D-A382-6D220FDC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144B-7ED4-44D7-963F-198A4949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AD6-EB5C-46D1-B408-CB57C9D9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5CC-DDB8-47B9-A0B4-22411A8A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D97-FAEB-4692-8CB2-6BFF0473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2D7-9507-444D-AF53-62D90F48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136-CAA2-48EA-B0CC-670C01F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463-4B6B-4DE7-8886-DE7F816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3D6-64F6-4808-8E2E-0EE3F827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C6CE-39C4-4D79-9238-BFB53A9028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93B8-3744-43AF-9D93-BD316F22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B806-C81F-42B7-8F38-A7F7C895FA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C7DE-7EB0-4FA4-920E-509967DB5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83" name="Rectangle 7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2"/>
          <p:cNvSpPr/>
          <p:nvPr/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300" spc="-1" strike="noStrike">
                <a:solidFill>
                  <a:srgbClr val="333399"/>
                </a:solidFill>
                <a:latin typeface="Garamond"/>
              </a:rPr>
              <a:t>Напредък в изпълнението на ОП РЧР за 2012 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Заседание на Съвета за координация при управление на средствата от 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(СКУСЕ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Garamond"/>
              </a:rPr>
              <a:t>София, 16 май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11"/>
          <p:cNvGraphicFramePr/>
          <p:nvPr/>
        </p:nvGraphicFramePr>
        <p:xfrm>
          <a:off x="304920" y="1600200"/>
          <a:ext cx="830556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8305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DCF8-4907-422D-92FA-65688AF1026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7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1"/>
          <p:cNvGraphicFramePr/>
          <p:nvPr/>
        </p:nvGraphicFramePr>
        <p:xfrm>
          <a:off x="380880" y="1371600"/>
          <a:ext cx="80010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1600"/>
                    <a:ext cx="80010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95B0-B269-45F7-9A24-22B9B75C20EC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8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13"/>
          <p:cNvGraphicFramePr/>
          <p:nvPr/>
        </p:nvGraphicFramePr>
        <p:xfrm>
          <a:off x="0" y="1676520"/>
          <a:ext cx="8881920" cy="49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88192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41D3-1AF3-478B-8F12-ADEE2AF740A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9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13"/>
          <p:cNvGraphicFramePr/>
          <p:nvPr/>
        </p:nvGraphicFramePr>
        <p:xfrm>
          <a:off x="304920" y="1143000"/>
          <a:ext cx="8515080" cy="524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5150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B80-6614-41C0-93C0-522EA74F041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0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11"/>
          <p:cNvGraphicFramePr/>
          <p:nvPr/>
        </p:nvGraphicFramePr>
        <p:xfrm>
          <a:off x="152280" y="1523880"/>
          <a:ext cx="8610840" cy="503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084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DD1-1016-4E82-A835-163706AC020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11"/>
          <p:cNvGraphicFramePr/>
          <p:nvPr/>
        </p:nvGraphicFramePr>
        <p:xfrm>
          <a:off x="228600" y="1828800"/>
          <a:ext cx="85345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8800"/>
                    <a:ext cx="853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937E-5B25-4EDC-B104-B640FDC698B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11"/>
          <p:cNvGraphicFramePr/>
          <p:nvPr/>
        </p:nvGraphicFramePr>
        <p:xfrm>
          <a:off x="152280" y="1523880"/>
          <a:ext cx="8460000" cy="49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4600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632-2A10-4823-A539-F06E5A344C9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6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11"/>
          <p:cNvGraphicFramePr/>
          <p:nvPr/>
        </p:nvGraphicFramePr>
        <p:xfrm>
          <a:off x="0" y="1447920"/>
          <a:ext cx="8686800" cy="519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86868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4820-8F15-421E-BE99-BCB89017190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7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11"/>
          <p:cNvGraphicFramePr/>
          <p:nvPr/>
        </p:nvGraphicFramePr>
        <p:xfrm>
          <a:off x="0" y="1581120"/>
          <a:ext cx="8991720" cy="49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1120"/>
                    <a:ext cx="89917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7704-E4E5-415E-86FC-B56C4C5CEBA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РИОРИТЕТНА ОС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7</a:t>
            </a:r>
            <a:br>
              <a:rPr sz="2800"/>
            </a:b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1"/>
          <p:cNvGraphicFramePr/>
          <p:nvPr/>
        </p:nvGraphicFramePr>
        <p:xfrm>
          <a:off x="0" y="1789200"/>
          <a:ext cx="8686800" cy="506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920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0BD2-8876-44EF-919B-A9FB82F86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8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F3C1-15C9-401F-8D9E-668181788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ПРОГРАМИРАНЕ НА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92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" name=""/>
          <p:cNvGraphicFramePr/>
          <p:nvPr/>
        </p:nvGraphicFramePr>
        <p:xfrm>
          <a:off x="457200" y="1951200"/>
          <a:ext cx="8229600" cy="4144320"/>
        </p:xfrm>
        <a:graphic>
          <a:graphicData uri="http://schemas.openxmlformats.org/drawingml/2006/table">
            <a:tbl>
              <a:tblPr/>
              <a:tblGrid>
                <a:gridCol w="5943600"/>
                <a:gridCol w="2286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юджет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74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грамира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ра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цент от бюджета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4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артирали процедури за предоставяне на безвъзмездна финансова помощ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923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2B6F-209E-487C-A517-134AF99C6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ДЕЙНОСТИ ПО КОМУНИКАЦИЯ И ПУБЛИЧНОСТ ПРЕЗ 201</a:t>
            </a: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2</a:t>
            </a: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 г.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19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екламни радио и телевизионни клип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убрики и репортаж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документални филм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Близо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60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0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публикации в интернет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4 мащабни информационни събития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Информационни дни по 21 схеми и обучения по още 5 схем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Годишно информационно събитие за популяризиране на ОП РЧР – май 2012 г., проведено във всички областни градове. Обща продължителност два месец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71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3432-22B8-4653-A996-788A177CF3E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01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" name=""/>
          <p:cNvGraphicFramePr/>
          <p:nvPr/>
        </p:nvGraphicFramePr>
        <p:xfrm>
          <a:off x="457200" y="1951200"/>
          <a:ext cx="8001000" cy="3701880"/>
        </p:xfrm>
        <a:graphic>
          <a:graphicData uri="http://schemas.openxmlformats.org/drawingml/2006/table">
            <a:tbl>
              <a:tblPr/>
              <a:tblGrid>
                <a:gridCol w="4013280"/>
                <a:gridCol w="2373120"/>
                <a:gridCol w="16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говор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027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зплат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52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р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5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ерт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11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1"/>
          <p:cNvGraphicFramePr/>
          <p:nvPr/>
        </p:nvGraphicFramePr>
        <p:xfrm>
          <a:off x="228600" y="1981080"/>
          <a:ext cx="868680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686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3345-103C-4BA7-B6CB-F7A99718CAD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4"/>
          <p:cNvGraphicFramePr/>
          <p:nvPr/>
        </p:nvGraphicFramePr>
        <p:xfrm>
          <a:off x="228600" y="1600200"/>
          <a:ext cx="87631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0020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D6A-F425-452F-98FC-7C3EE1B3BA3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5"/>
          <p:cNvGraphicFramePr/>
          <p:nvPr/>
        </p:nvGraphicFramePr>
        <p:xfrm>
          <a:off x="152280" y="1523880"/>
          <a:ext cx="8612280" cy="514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2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D2D-1703-4291-B20B-CD97A653538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6"/>
          <p:cNvGraphicFramePr/>
          <p:nvPr/>
        </p:nvGraphicFramePr>
        <p:xfrm>
          <a:off x="41400" y="1214280"/>
          <a:ext cx="9024840" cy="45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14280"/>
                    <a:ext cx="90248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103C-9D50-4B3F-9AD1-EC0E9A0E8FE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1"/>
          <p:cNvGraphicFramePr/>
          <p:nvPr/>
        </p:nvGraphicFramePr>
        <p:xfrm>
          <a:off x="228600" y="1523880"/>
          <a:ext cx="868680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AA40-37AE-4A67-834E-86A94C3C662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1"/>
          <p:cNvGraphicFramePr/>
          <p:nvPr/>
        </p:nvGraphicFramePr>
        <p:xfrm>
          <a:off x="0" y="1371600"/>
          <a:ext cx="89154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8915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FD05-731E-41EC-A527-7467F256C4D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anaki Yanakiev</dc:creator>
  <dc:description/>
  <dc:language>en-US</dc:language>
  <cp:lastModifiedBy>v.olshevski</cp:lastModifiedBy>
  <dcterms:modified xsi:type="dcterms:W3CDTF">2013-05-10T14:33:04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